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comments/comment2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7099300" cy="10234613"/>
</p:presentation>
</file>

<file path=ppt/commentAuthors.xml><?xml version="1.0" encoding="utf-8"?>
<p:cmAuthorLst xmlns:p="http://schemas.openxmlformats.org/presentationml/2006/main">
  <p:cmAuthor id="0" name="CVT" initials="C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<Relationship Id="rId27" Type="http://schemas.openxmlformats.org/officeDocument/2006/relationships/commentAuthors" Target="commentAuthors.xml"/>
</Relationships>
</file>

<file path=ppt/comments/comment21.xml><?xml version="1.0" encoding="utf-8"?>
<p:cmLst xmlns:p="http://schemas.openxmlformats.org/presentationml/2006/main">
  <p:cm authorId="0" dt="2005-11-03T14:39:31.656000000" idx="1">
    <p:pos x="10" y="10"/>
    <p:text>případně další příklad L(G) = {a^2^n b a^2^m : n, m &gt;= 0} pomocí pravidel E0L systému:
A -&gt; A, A-&gt; a, a -&gt; aa, b -&gt; b.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B0FBB-FA4D-4173-846D-37221CD2D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3E18A-A408-4BCE-B6C7-C49378993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C8C66-BBAD-4ED8-8C7F-50DD63C00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C859D-0F5B-47A3-9DC7-1C47D46A1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E7775-6D6E-4D93-8CC8-19B3D3FF3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E5136-8C9D-43CB-A1FA-B877001C1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5E438-5B5A-4D84-9EF1-DF047BA3E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95B4D-0E8D-4A46-97A7-D4AD197F7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8FFF6-D59D-422A-83D4-1623E7784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F6CA0-1A42-4D99-9B92-C10448BAB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832BB-40E2-4562-BCA7-D6549F2F3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FF3AC-9C6C-43B2-A362-6D30023AF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FEB11-7A9D-4485-9CAD-204EA806F883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84872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Advanced </a:t>
            </a: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L</a:t>
            </a: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ecture</a:t>
            </a: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:</a:t>
            </a:r>
            <a:br>
              <a:rPr sz="6000"/>
            </a:b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L-system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d Alga Simulation 3/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543800" y="3352680"/>
            <a:ext cx="1309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543800" y="5029200"/>
            <a:ext cx="1379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8[1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]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09480" y="144792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rivatio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3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4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5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85800" y="24382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d Alga Simulation 4/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543800" y="3352680"/>
            <a:ext cx="1309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543800" y="5029200"/>
            <a:ext cx="1379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8[1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]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09480" y="144792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rivatio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3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4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54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65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85800" y="24382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609480" y="144792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rivatio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3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4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54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654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765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85800" y="24382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d Alga Simulation 5/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543800" y="3352680"/>
            <a:ext cx="1309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543800" y="5029200"/>
            <a:ext cx="1379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6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8[1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]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56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d Alga Simulation 6/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543800" y="3352680"/>
            <a:ext cx="1309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543800" y="5029200"/>
            <a:ext cx="1379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6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7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8[1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]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356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72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70836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09480" y="144792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rivatio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3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4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54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654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7654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228[1]765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85800" y="24382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d Alga Simulation 7/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543800" y="3352680"/>
            <a:ext cx="1309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[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[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543800" y="5029200"/>
            <a:ext cx="1379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6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7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8[1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8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]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H="1">
            <a:off x="3924360" y="414972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356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572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78800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70836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780000" y="3502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09480" y="144792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rivatio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…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228[1]7654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228[23]8[1]765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85800" y="24382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d Alga Simulation 8/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7543800" y="3352680"/>
            <a:ext cx="1309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[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[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7543800" y="5029200"/>
            <a:ext cx="1379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6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7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8[1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8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]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3924360" y="414972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356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572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78800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00364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70836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80000" y="3502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851280" y="3286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14036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H="1">
            <a:off x="3995640" y="436572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09480" y="144792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rivatio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…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228[23]8[1]7654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228[224]8[23]8[1]765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85800" y="24382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d Alga Simulation 9/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flipH="1">
            <a:off x="3924360" y="414972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356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572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78800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00364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21964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70836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780000" y="3502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851280" y="3286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924360" y="3070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4036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211640" y="3502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H="1">
            <a:off x="3995640" y="436572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flipH="1">
            <a:off x="4067280" y="458136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 flipH="1">
            <a:off x="4356000" y="414972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543800" y="3352680"/>
            <a:ext cx="1309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[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[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543800" y="5029200"/>
            <a:ext cx="1379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6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7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8[1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8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]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09480" y="144792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rivatio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 baseline="30000">
                <a:solidFill>
                  <a:srgbClr val="000000"/>
                </a:solidFill>
                <a:latin typeface="Tahoma"/>
              </a:rPr>
              <a:t>*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8[2254]8[224]8[23]8[1]7654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85800" y="24382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d Alga Simulation 10/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H="1">
            <a:off x="3924360" y="414972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356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572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78800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00364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21964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70836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780000" y="3502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851280" y="3286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924360" y="3070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14036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211640" y="3502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 flipH="1">
            <a:off x="3995640" y="436572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flipH="1">
            <a:off x="4067280" y="458136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H="1">
            <a:off x="4356000" y="414972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3924360" y="414972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356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572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78800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00364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21964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43564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370836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80000" y="3502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851280" y="3286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924360" y="3070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995640" y="285444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14036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211640" y="3502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284720" y="3286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57200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 flipH="1">
            <a:off x="3995640" y="436572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4067280" y="458136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flipH="1">
            <a:off x="4140360" y="479736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4356000" y="414972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flipH="1">
            <a:off x="4427640" y="436572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7543800" y="3352680"/>
            <a:ext cx="1309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[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[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7543800" y="5029200"/>
            <a:ext cx="1379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6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7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8[1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8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]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09480" y="144792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rivatio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 baseline="30000">
                <a:solidFill>
                  <a:srgbClr val="000000"/>
                </a:solidFill>
                <a:latin typeface="Tahoma"/>
              </a:rPr>
              <a:t>*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8[22654]8[2254]8[224]8[23]8[1]765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685800" y="24382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d Alga Simulation 11/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 flipH="1">
            <a:off x="3924360" y="414972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356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572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78800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364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21964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70836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780000" y="3502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3851280" y="3286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24360" y="3070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14036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211640" y="3502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 flipH="1">
            <a:off x="3995640" y="436572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 flipH="1">
            <a:off x="4067280" y="458136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 flipH="1">
            <a:off x="4356000" y="414972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924360" y="414972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356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572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78800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500364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21964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43564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65164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70836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780000" y="3502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3851280" y="3286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924360" y="3070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995640" y="285444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067280" y="263844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14036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211640" y="3502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284720" y="3286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4356000" y="3070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57200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645080" y="3502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H="1">
            <a:off x="3995640" y="436572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 flipH="1">
            <a:off x="4067280" y="458136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 flipH="1">
            <a:off x="4140360" y="479736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4212360" y="5013360"/>
            <a:ext cx="287640" cy="216000"/>
          </a:xfrm>
          <a:prstGeom prst="parallelogram">
            <a:avLst>
              <a:gd name="adj" fmla="val 33292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 flipH="1">
            <a:off x="4356000" y="414972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flipH="1">
            <a:off x="4427640" y="436572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 flipH="1">
            <a:off x="4500720" y="458136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flipH="1">
            <a:off x="4788000" y="414972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609480" y="144792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rivatio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 baseline="30000">
                <a:solidFill>
                  <a:srgbClr val="000000"/>
                </a:solidFill>
                <a:latin typeface="Tahoma"/>
              </a:rPr>
              <a:t>*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8[227654]8[22654]8[2254]8[224]8[23]8[1]765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685800" y="24382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/>
          <p:nvPr/>
        </p:nvSpPr>
        <p:spPr>
          <a:xfrm>
            <a:off x="685800" y="1752480"/>
            <a:ext cx="7772400" cy="29718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685800" y="1676520"/>
            <a:ext cx="7848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Not closed under operation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nion of 0L langu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ersection of 0L langu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lementation of 0L langu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ncatenation of 0L langu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sitive closure (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of 0L langu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Operations over 0L langu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609480" y="11430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properties different from CF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685800" y="5029200"/>
            <a:ext cx="7772400" cy="990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685800" y="495288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Closed under operation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eversal of 0L langu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85800" y="1981080"/>
            <a:ext cx="7772400" cy="83844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1219320"/>
            <a:ext cx="7772400" cy="6858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0L Syst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3232080"/>
            <a:ext cx="7772400" cy="31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PH" sz="3200" spc="-1" strike="noStrike">
                <a:solidFill>
                  <a:srgbClr val="000000"/>
                </a:solidFill>
                <a:latin typeface="Times New Roman"/>
              </a:rPr>
              <a:t>Classical approach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PH" sz="3200" spc="-1" strike="noStrike">
                <a:solidFill>
                  <a:srgbClr val="000000"/>
                </a:solidFill>
                <a:latin typeface="Times New Roman"/>
              </a:rPr>
              <a:t>Only a certain </a:t>
            </a:r>
            <a:r>
              <a:rPr b="0" i="1" lang="en-PH" sz="3200" spc="-1" strike="noStrike">
                <a:solidFill>
                  <a:srgbClr val="000000"/>
                </a:solidFill>
                <a:latin typeface="Times New Roman"/>
              </a:rPr>
              <a:t>part</a:t>
            </a:r>
            <a:r>
              <a:rPr b="0" lang="en-PH" sz="3200" spc="-1" strike="noStrike">
                <a:solidFill>
                  <a:srgbClr val="000000"/>
                </a:solidFill>
                <a:latin typeface="Times New Roman"/>
              </a:rPr>
              <a:t> of a word is rewritten at one mom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PH" sz="3200" spc="-1" strike="noStrike">
                <a:solidFill>
                  <a:srgbClr val="000000"/>
                </a:solidFill>
                <a:latin typeface="Times New Roman"/>
              </a:rPr>
              <a:t>Lindenmayer approach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PH" sz="3200" spc="-1" strike="noStrike">
                <a:solidFill>
                  <a:srgbClr val="000000"/>
                </a:solidFill>
                <a:latin typeface="Times New Roman"/>
              </a:rPr>
              <a:t>All letters</a:t>
            </a:r>
            <a:r>
              <a:rPr b="0" lang="en-PH" sz="3200" spc="-1" strike="noStrike">
                <a:solidFill>
                  <a:srgbClr val="000000"/>
                </a:solidFill>
                <a:latin typeface="Times New Roman"/>
              </a:rPr>
              <a:t> of a word must be rewritten at the same ti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9718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62120" y="129528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History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strid Lindenmayer, 196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2120" y="213372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Inspiration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the growth process in living organis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/>
          <p:nvPr/>
        </p:nvSpPr>
        <p:spPr>
          <a:xfrm>
            <a:off x="685800" y="1752480"/>
            <a:ext cx="7772400" cy="18288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685800" y="1676520"/>
            <a:ext cx="784872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Extended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 syste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s a quadru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w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V, P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have the same meaning as in 0L system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s set of termin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611280" y="573408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in E0L system then it is 0L syste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7240" y="565776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0L Defin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09480" y="11430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mproved variant of 0L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687240" y="4362480"/>
            <a:ext cx="7772400" cy="10666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687240" y="428616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anguag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generated by E0L syste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L(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) = {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cs-CZ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684360" y="357336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– by analogy with 0L syste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684360" y="4149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/>
          <p:nvPr/>
        </p:nvSpPr>
        <p:spPr>
          <a:xfrm>
            <a:off x="684360" y="440676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684360" y="2349360"/>
            <a:ext cx="78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1" lang="cs-CZ" sz="3200" spc="-1" strike="noStrike">
                <a:solidFill>
                  <a:srgbClr val="339933"/>
                </a:solidFill>
                <a:latin typeface="Times New Roman"/>
              </a:rPr>
              <a:t>{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cs-CZ" sz="3200" spc="-1" strike="noStrike">
                <a:solidFill>
                  <a:srgbClr val="339933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a</a:t>
            </a:r>
            <a:r>
              <a:rPr b="1" lang="cs-CZ" sz="3200" spc="-1" strike="noStrike">
                <a:solidFill>
                  <a:srgbClr val="339933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b</a:t>
            </a:r>
            <a:r>
              <a:rPr b="1" lang="cs-CZ" sz="3200" spc="-1" strike="noStrike">
                <a:solidFill>
                  <a:srgbClr val="339933"/>
                </a:solidFill>
                <a:latin typeface="Times New Roman"/>
              </a:rPr>
              <a:t>}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{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}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ff66ff"/>
                </a:solidFill>
                <a:latin typeface="Times New Roman"/>
              </a:rPr>
              <a:t>S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0L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ystem –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09480" y="114300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E0L are more powerful than 0L;</a:t>
            </a:r>
            <a:br>
              <a:rPr sz="3200"/>
            </a:b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starting string has not to be inluded in L(G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684360" y="2959200"/>
            <a:ext cx="78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= { 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  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a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a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b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b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84360" y="3645000"/>
            <a:ext cx="78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L(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1" i="1" lang="cs-CZ" sz="3200" spc="-1" strike="noStrike">
                <a:solidFill>
                  <a:srgbClr val="cc3300"/>
                </a:solidFill>
                <a:latin typeface="Times New Roman"/>
              </a:rPr>
              <a:t>a</a:t>
            </a:r>
            <a:r>
              <a:rPr b="1" lang="cs-CZ" sz="3200" spc="-1" strike="noStrike" baseline="20000">
                <a:solidFill>
                  <a:srgbClr val="cc3300"/>
                </a:solidFill>
                <a:latin typeface="Times New Roman"/>
              </a:rPr>
              <a:t>2</a:t>
            </a:r>
            <a:r>
              <a:rPr b="1" i="1" lang="cs-CZ" sz="3200" spc="-1" strike="noStrike" baseline="40000">
                <a:solidFill>
                  <a:srgbClr val="cc33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0}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1" i="1" lang="cs-CZ" sz="3200" spc="-1" strike="noStrike">
                <a:solidFill>
                  <a:srgbClr val="cc3300"/>
                </a:solidFill>
                <a:latin typeface="Times New Roman"/>
              </a:rPr>
              <a:t>b</a:t>
            </a:r>
            <a:r>
              <a:rPr b="1" lang="cs-CZ" sz="3200" spc="-1" strike="noStrike" baseline="20000">
                <a:solidFill>
                  <a:srgbClr val="cc3300"/>
                </a:solidFill>
                <a:latin typeface="Times New Roman"/>
              </a:rPr>
              <a:t>2</a:t>
            </a:r>
            <a:r>
              <a:rPr b="1" i="1" lang="cs-CZ" sz="3200" spc="-1" strike="noStrike" baseline="40000">
                <a:solidFill>
                  <a:srgbClr val="cc33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0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60320" y="234936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685800" y="45720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L(E0L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L(0L)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L(0L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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L(E0L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0L &amp; Chomsky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979640" y="1285920"/>
            <a:ext cx="5616720" cy="557208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rot="19641000">
            <a:off x="6075000" y="5204520"/>
            <a:ext cx="1008360" cy="520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700360" y="1430280"/>
            <a:ext cx="4248000" cy="4275360"/>
          </a:xfrm>
          <a:prstGeom prst="ellipse">
            <a:avLst/>
          </a:prstGeom>
          <a:solidFill>
            <a:srgbClr val="00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987640" y="1717560"/>
            <a:ext cx="2952720" cy="2952720"/>
          </a:xfrm>
          <a:prstGeom prst="ellipse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3348000" y="1935000"/>
            <a:ext cx="2160720" cy="1438560"/>
          </a:xfrm>
          <a:prstGeom prst="ellipse">
            <a:avLst/>
          </a:prstGeom>
          <a:solidFill>
            <a:srgbClr val="0000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3203640" y="2538360"/>
            <a:ext cx="1582560" cy="4032360"/>
          </a:xfrm>
          <a:prstGeom prst="ellipse">
            <a:avLst/>
          </a:prstGeom>
          <a:solidFill>
            <a:srgbClr val="cc3300">
              <a:alpha val="64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 rot="19092000">
            <a:off x="4632840" y="2369520"/>
            <a:ext cx="720720" cy="3988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F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 rot="19264200">
            <a:off x="4849560" y="3234600"/>
            <a:ext cx="922320" cy="459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E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 rot="19589400">
            <a:off x="5643000" y="4025160"/>
            <a:ext cx="1008000" cy="520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C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 flipH="1">
            <a:off x="1834920" y="2943360"/>
            <a:ext cx="2089080" cy="2156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 flipH="1">
            <a:off x="1763640" y="3762360"/>
            <a:ext cx="1944720" cy="712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 flipH="1">
            <a:off x="2771280" y="5057640"/>
            <a:ext cx="1295640" cy="1447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 flipH="1">
            <a:off x="2484360" y="6254640"/>
            <a:ext cx="1440000" cy="1000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 flipV="1">
            <a:off x="5219640" y="2249280"/>
            <a:ext cx="2089080" cy="6490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 flipV="1">
            <a:off x="5508720" y="3401640"/>
            <a:ext cx="1152360" cy="4064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 flipV="1">
            <a:off x="6012000" y="4653000"/>
            <a:ext cx="1224000" cy="3333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5651640" y="6066000"/>
            <a:ext cx="1441440" cy="2156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971640" y="2825640"/>
            <a:ext cx="86364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{a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84360" y="3762360"/>
            <a:ext cx="108108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{a}</a:t>
            </a:r>
            <a:r>
              <a:rPr b="1" lang="cs-CZ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324000" y="4986360"/>
            <a:ext cx="2482560" cy="459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cs-CZ" sz="24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cd</a:t>
            </a:r>
            <a:r>
              <a:rPr b="1" i="1" lang="cs-CZ" sz="24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0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324000" y="6066000"/>
            <a:ext cx="215892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cs-CZ" sz="2400" spc="-1" strike="noStrike" baseline="2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cs-CZ" sz="2400" spc="-1" strike="noStrike" baseline="4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0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7093080" y="5994360"/>
            <a:ext cx="158436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7236000" y="4365720"/>
            <a:ext cx="1722240" cy="459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659640" y="3041640"/>
            <a:ext cx="2303280" cy="459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{bbb}</a:t>
            </a:r>
            <a:r>
              <a:rPr b="1" lang="cs-CZ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7308720" y="2033640"/>
            <a:ext cx="125424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3564000" y="4194000"/>
            <a:ext cx="863640" cy="581400"/>
          </a:xfrm>
          <a:prstGeom prst="rect">
            <a:avLst/>
          </a:prstGeom>
          <a:solidFill>
            <a:srgbClr val="cc33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0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"/>
          <p:cNvSpPr/>
          <p:nvPr/>
        </p:nvSpPr>
        <p:spPr>
          <a:xfrm>
            <a:off x="3962520" y="2438280"/>
            <a:ext cx="1371600" cy="581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T0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 systems &amp; Chomsky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4114800" y="3505320"/>
            <a:ext cx="990720" cy="581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E0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5181480" y="4724280"/>
            <a:ext cx="762120" cy="581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0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276720" y="4724280"/>
            <a:ext cx="838080" cy="581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C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4038480" y="1371600"/>
            <a:ext cx="1219320" cy="581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4191120" y="6019920"/>
            <a:ext cx="761760" cy="581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 flipV="1">
            <a:off x="4572000" y="198108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V="1">
            <a:off x="4572000" y="304812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V="1">
            <a:off x="3809880" y="4114440"/>
            <a:ext cx="304920" cy="6094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V="1">
            <a:off x="4952880" y="5333760"/>
            <a:ext cx="609840" cy="685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 flipV="1">
            <a:off x="3581280" y="5333760"/>
            <a:ext cx="609840" cy="685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 flipV="1">
            <a:off x="5105520" y="4114440"/>
            <a:ext cx="304560" cy="6094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60320" y="2895480"/>
            <a:ext cx="7774200" cy="24685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03240" y="2843280"/>
            <a:ext cx="77724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0L system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is a triple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H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is a finite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alphabe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of symb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is a finite set of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rul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of the form: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, where 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GB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3)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w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GB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is the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starting string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axiom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2133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0L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85800" y="213372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no nonterminals, pa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ll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el derivation ste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685800" y="990720"/>
            <a:ext cx="4114800" cy="914400"/>
            <a:chOff x="685800" y="990720"/>
            <a:chExt cx="4114800" cy="914400"/>
          </a:xfrm>
        </p:grpSpPr>
        <p:sp>
          <p:nvSpPr>
            <p:cNvPr id="58" name=""/>
            <p:cNvSpPr/>
            <p:nvPr/>
          </p:nvSpPr>
          <p:spPr>
            <a:xfrm>
              <a:off x="685800" y="1371600"/>
              <a:ext cx="3962520" cy="53352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85800" y="1371600"/>
              <a:ext cx="4114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2800" spc="-1" strike="noStrike">
                  <a:solidFill>
                    <a:srgbClr val="000000"/>
                  </a:solidFill>
                  <a:latin typeface="Times New Roman"/>
                </a:rPr>
                <a:t>Zero-sided left-side handl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flipV="1">
              <a:off x="1981080" y="990720"/>
              <a:ext cx="1067040" cy="3808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3657600" y="990720"/>
            <a:ext cx="4800600" cy="914400"/>
            <a:chOff x="3657600" y="990720"/>
            <a:chExt cx="4800600" cy="914400"/>
          </a:xfrm>
        </p:grpSpPr>
        <p:sp>
          <p:nvSpPr>
            <p:cNvPr id="62" name=""/>
            <p:cNvSpPr/>
            <p:nvPr/>
          </p:nvSpPr>
          <p:spPr>
            <a:xfrm>
              <a:off x="4800600" y="1371600"/>
              <a:ext cx="3657600" cy="53352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029200" y="1371600"/>
              <a:ext cx="3429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800" spc="-1" strike="noStrike">
                  <a:solidFill>
                    <a:srgbClr val="000000"/>
                  </a:solidFill>
                  <a:latin typeface="Times New Roman"/>
                </a:rPr>
                <a:t>Lindenmayer system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 flipV="1">
              <a:off x="3657600" y="990720"/>
              <a:ext cx="1752480" cy="3808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85800" y="1784520"/>
            <a:ext cx="7772400" cy="25588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85800" y="1752480"/>
            <a:ext cx="7696080" cy="25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Direct derivatio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, if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for all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1,…,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Derivatio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: reflexive and transitive closure of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09480" y="4419720"/>
            <a:ext cx="78487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1  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2  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… 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eriv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09480" y="11430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parallel rewriting of all symb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09480" y="5410080"/>
            <a:ext cx="78487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1   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2  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… 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cs-CZ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960000" y="4952880"/>
            <a:ext cx="2258280" cy="533520"/>
            <a:chOff x="3960000" y="4952880"/>
            <a:chExt cx="2258280" cy="533520"/>
          </a:xfrm>
        </p:grpSpPr>
        <p:sp>
          <p:nvSpPr>
            <p:cNvPr id="73" name=""/>
            <p:cNvSpPr/>
            <p:nvPr/>
          </p:nvSpPr>
          <p:spPr>
            <a:xfrm rot="5400000">
              <a:off x="3983760" y="492876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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rot="5400000">
              <a:off x="4517640" y="492876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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rot="5400000">
              <a:off x="5660640" y="492876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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609480" y="6019920"/>
            <a:ext cx="510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nd we write: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u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00"/>
                            </p:stCondLst>
                            <p:childTnLst>
                              <p:par>
                                <p:cTn id="2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85800" y="1784520"/>
            <a:ext cx="7772400" cy="6537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1752480"/>
            <a:ext cx="807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anguage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}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85800" y="274320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(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90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334120" y="5867280"/>
            <a:ext cx="358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200" spc="-1" strike="noStrike" baseline="2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cs-CZ" sz="3200" spc="-1" strike="noStrike" baseline="4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0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guage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 &amp;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09480" y="11430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all reachable sentential forms in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H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rot="5400000">
            <a:off x="1659960" y="367164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1312920" y="4318560"/>
            <a:ext cx="1336320" cy="758880"/>
            <a:chOff x="1312920" y="4318560"/>
            <a:chExt cx="1336320" cy="758880"/>
          </a:xfrm>
        </p:grpSpPr>
        <p:sp>
          <p:nvSpPr>
            <p:cNvPr id="87" name=""/>
            <p:cNvSpPr/>
            <p:nvPr/>
          </p:nvSpPr>
          <p:spPr>
            <a:xfrm rot="3814800">
              <a:off x="2003400" y="4395600"/>
              <a:ext cx="53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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rot="6690600">
              <a:off x="1414440" y="443160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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" name=""/>
          <p:cNvGrpSpPr/>
          <p:nvPr/>
        </p:nvGrpSpPr>
        <p:grpSpPr>
          <a:xfrm>
            <a:off x="657360" y="4982760"/>
            <a:ext cx="2539800" cy="853560"/>
            <a:chOff x="657360" y="4982760"/>
            <a:chExt cx="2539800" cy="853560"/>
          </a:xfrm>
        </p:grpSpPr>
        <p:sp>
          <p:nvSpPr>
            <p:cNvPr id="90" name=""/>
            <p:cNvSpPr/>
            <p:nvPr/>
          </p:nvSpPr>
          <p:spPr>
            <a:xfrm rot="7665000">
              <a:off x="783360" y="515664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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rot="6690600">
              <a:off x="1393920" y="515700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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rot="3814800">
              <a:off x="2003400" y="5081400"/>
              <a:ext cx="53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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rot="3083400">
              <a:off x="2536920" y="5081760"/>
              <a:ext cx="53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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304920" y="5410080"/>
            <a:ext cx="5029200" cy="581400"/>
            <a:chOff x="304920" y="5410080"/>
            <a:chExt cx="5029200" cy="581400"/>
          </a:xfrm>
        </p:grpSpPr>
        <p:sp>
          <p:nvSpPr>
            <p:cNvPr id="95" name=""/>
            <p:cNvSpPr/>
            <p:nvPr/>
          </p:nvSpPr>
          <p:spPr>
            <a:xfrm>
              <a:off x="304920" y="5410080"/>
              <a:ext cx="3809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  a  a  a  a  a  a  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05320" y="5410080"/>
              <a:ext cx="1828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3200" spc="-1" strike="noStrike" baseline="20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0" lang="cs-CZ" sz="3200" spc="-1" strike="noStrike" baseline="40000">
                  <a:solidFill>
                    <a:srgbClr val="3333cc"/>
                  </a:solidFill>
                  <a:latin typeface="Times New Roman"/>
                </a:rPr>
                <a:t>3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3200" spc="-1" strike="noStrike" baseline="30000">
                  <a:solidFill>
                    <a:srgbClr val="3333cc"/>
                  </a:solidFill>
                  <a:latin typeface="Times New Roman"/>
                </a:rPr>
                <a:t>8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1143000" y="4724280"/>
            <a:ext cx="4191120" cy="581400"/>
            <a:chOff x="1143000" y="4724280"/>
            <a:chExt cx="4191120" cy="581400"/>
          </a:xfrm>
        </p:grpSpPr>
        <p:sp>
          <p:nvSpPr>
            <p:cNvPr id="98" name=""/>
            <p:cNvSpPr/>
            <p:nvPr/>
          </p:nvSpPr>
          <p:spPr>
            <a:xfrm>
              <a:off x="1143000" y="4724280"/>
              <a:ext cx="1828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  a  a  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895480" y="4724280"/>
              <a:ext cx="2438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=    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3200" spc="-1" strike="noStrike" baseline="20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0" lang="cs-CZ" sz="3200" spc="-1" strike="noStrike" baseline="40000">
                  <a:solidFill>
                    <a:srgbClr val="3333cc"/>
                  </a:solidFill>
                  <a:latin typeface="Times New Roman"/>
                </a:rPr>
                <a:t>2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3200" spc="-1" strike="noStrike" baseline="30000">
                  <a:solidFill>
                    <a:srgbClr val="3333cc"/>
                  </a:solidFill>
                  <a:latin typeface="Times New Roman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1523880" y="4038480"/>
            <a:ext cx="3733920" cy="581400"/>
            <a:chOff x="1523880" y="4038480"/>
            <a:chExt cx="3733920" cy="581400"/>
          </a:xfrm>
        </p:grpSpPr>
        <p:sp>
          <p:nvSpPr>
            <p:cNvPr id="101" name=""/>
            <p:cNvSpPr/>
            <p:nvPr/>
          </p:nvSpPr>
          <p:spPr>
            <a:xfrm>
              <a:off x="1523880" y="4038480"/>
              <a:ext cx="990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  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514600" y="4038480"/>
              <a:ext cx="2743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=      </a:t>
              </a:r>
              <a:r>
                <a:rPr b="0" lang="cs-CZ" sz="32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3200" spc="-1" strike="noStrike" baseline="20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0" lang="cs-CZ" sz="3200" spc="-1" strike="noStrike" baseline="40000">
                  <a:solidFill>
                    <a:srgbClr val="3333cc"/>
                  </a:solidFill>
                  <a:latin typeface="Times New Roman"/>
                </a:rPr>
                <a:t>1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3200" spc="-1" strike="noStrike" baseline="30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1676520" y="3276720"/>
            <a:ext cx="3581280" cy="581400"/>
            <a:chOff x="1676520" y="3276720"/>
            <a:chExt cx="3581280" cy="581400"/>
          </a:xfrm>
        </p:grpSpPr>
        <p:sp>
          <p:nvSpPr>
            <p:cNvPr id="104" name=""/>
            <p:cNvSpPr/>
            <p:nvPr/>
          </p:nvSpPr>
          <p:spPr>
            <a:xfrm>
              <a:off x="1676520" y="3276720"/>
              <a:ext cx="53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057400" y="3276720"/>
              <a:ext cx="3200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     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=         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3200" spc="-1" strike="noStrike" baseline="20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0" lang="cs-CZ" sz="3200" spc="-1" strike="noStrike" baseline="40000">
                  <a:solidFill>
                    <a:srgbClr val="3333cc"/>
                  </a:solidFill>
                  <a:latin typeface="Times New Roman"/>
                </a:rPr>
                <a:t>0</a:t>
              </a:r>
              <a:r>
                <a:rPr b="0" lang="cs-CZ" sz="32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5410080" y="2666880"/>
            <a:ext cx="3124440" cy="3111480"/>
            <a:chOff x="5410080" y="2666880"/>
            <a:chExt cx="3124440" cy="3111480"/>
          </a:xfrm>
        </p:grpSpPr>
        <p:sp>
          <p:nvSpPr>
            <p:cNvPr id="107" name=""/>
            <p:cNvSpPr/>
            <p:nvPr/>
          </p:nvSpPr>
          <p:spPr>
            <a:xfrm>
              <a:off x="5410080" y="2666880"/>
              <a:ext cx="3124440" cy="2438640"/>
            </a:xfrm>
            <a:prstGeom prst="ellipse">
              <a:avLst/>
            </a:prstGeom>
            <a:solidFill>
              <a:srgbClr val="3366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010280" y="5257800"/>
              <a:ext cx="1503360" cy="520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L(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flipH="1" flipV="1">
              <a:off x="7924320" y="4800600"/>
              <a:ext cx="22860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22920" y="2781360"/>
              <a:ext cx="5986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6781680" y="2971800"/>
            <a:ext cx="457200" cy="520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019920" y="3352680"/>
            <a:ext cx="533160" cy="520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cs-CZ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238880" y="3657600"/>
            <a:ext cx="533520" cy="520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cs-CZ" sz="28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095880" y="4191120"/>
            <a:ext cx="533520" cy="520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cs-CZ" sz="2800" spc="-1" strike="noStrike" baseline="30000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781680" y="4191120"/>
            <a:ext cx="114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rot="5400000">
            <a:off x="1721160" y="589644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685800" y="2057400"/>
            <a:ext cx="7772400" cy="15238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85800" y="198108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Deterministic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 syste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D0L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here is exactly one rule </a:t>
            </a:r>
            <a:br>
              <a:rPr sz="3200"/>
            </a:b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85800" y="388620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ariants of L-syst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09480" y="10666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determinism and/or no erasing ru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85800" y="152388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is a 0L syste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609480" y="4114800"/>
            <a:ext cx="7925040" cy="2197080"/>
            <a:chOff x="609480" y="4114800"/>
            <a:chExt cx="7925040" cy="2197080"/>
          </a:xfrm>
        </p:grpSpPr>
        <p:sp>
          <p:nvSpPr>
            <p:cNvPr id="125" name=""/>
            <p:cNvSpPr/>
            <p:nvPr/>
          </p:nvSpPr>
          <p:spPr>
            <a:xfrm>
              <a:off x="609480" y="5257800"/>
              <a:ext cx="7925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Note: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PD0L is a deterministic propagating 0L system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85800" y="4191120"/>
              <a:ext cx="7772400" cy="106668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85800" y="4114800"/>
              <a:ext cx="78487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Definition: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Propagating 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L system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(P0L)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For each </a:t>
              </a:r>
              <a:r>
                <a:rPr b="0" i="1" lang="en-GB" sz="3200" spc="-1" strike="noStrike">
                  <a:solidFill>
                    <a:srgbClr val="000000"/>
                  </a:solidFill>
                  <a:latin typeface="Times New Roman"/>
                </a:rPr>
                <a:t>a </a:t>
              </a:r>
              <a:r>
                <a:rPr b="0" lang="en-GB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3200" spc="-1" strike="noStrike">
                  <a:solidFill>
                    <a:srgbClr val="000000"/>
                  </a:solidFill>
                  <a:latin typeface="Times New Roman"/>
                </a:rPr>
                <a:t>x </a:t>
              </a:r>
              <a:r>
                <a:rPr b="0" lang="en-GB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holds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09480" y="5791320"/>
              <a:ext cx="7925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Note 2: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The previous example is a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PD0L system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609480" y="144792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Model of red alga growth by PD0L syste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4038480"/>
            <a:ext cx="609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Example – Red Alga Simu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324480" y="2133720"/>
            <a:ext cx="13096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2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2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5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[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324480" y="4343400"/>
            <a:ext cx="16002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7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8[1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]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85800" y="373392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tarting str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724280" y="3733920"/>
            <a:ext cx="12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Ru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191120" y="3733920"/>
            <a:ext cx="0" cy="6094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d Alga Simulation 1/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543800" y="3352680"/>
            <a:ext cx="1309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543800" y="5029200"/>
            <a:ext cx="1379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8[1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]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09480" y="144792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rivatio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85800" y="24382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d Alga Simulation 2/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543800" y="3352680"/>
            <a:ext cx="1309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543800" y="5029200"/>
            <a:ext cx="1379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8[1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]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09480" y="144792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rivatio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3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85800" y="24382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1:29:08Z</dcterms:created>
  <dc:creator>Roman Lukáš</dc:creator>
  <dc:description/>
  <dc:language>en-US</dc:language>
  <cp:lastModifiedBy>CVT</cp:lastModifiedBy>
  <dcterms:modified xsi:type="dcterms:W3CDTF">2006-08-30T14:38:54Z</dcterms:modified>
  <cp:revision>167</cp:revision>
  <dc:subject/>
  <dc:title>Alphabets, Strings, and Languages</dc:title>
</cp:coreProperties>
</file>